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163F-CE87-4FE4-B7CF-D3AB31D4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AFTERNOON LADIES AND GENTLEMEN, FIRSTLY I WOULD LIKE TO INTRODUCE MY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NAME IS SONIA MARCO, IM WORKING FOR FEBE AS CAMPAIGNS PROJECT MANAGER. I AM GOING TO TALK ABOUT OUR TV CAMPAIGN TO PROMOTE RESPONSIBLE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DIVIDED MY TALK IN THREE PARTS, FIRSTLY I AM GOING TO TALK ABUT THE PERCEPCION ABOUT DRINKING PATTERNS IN SPAIN, IN THE SECOND PART I AM GOING TO TALK ABOUT THE ADVERT ( OBJECTIVES, TARGET) MASS MEDIA AND FINALLY ABOUT THE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KNOW I AM GOING TO SHW YOU THE ADV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YOU DON´T MIND FOR YOU TO FULLY APPRECIATED IM GOING TO SHOW YOU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E LAUNCHED THE CAMPAIGN DURING XMAS PERIOD TIME OF THE YEAR WHERE ALCOHOL CONSUMPTION IS HIGHER, AS A REMINDER OF THE IMPORTANCE OF DRINKING RESPONSIBLY AND HAVE 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CAMPAIGN WAS LAUNCHED ON NATIONAL TV, WITH A BUDGET OVER 90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ING THE PERIOD OF THE CAMPAIGN THE VISITS INTO THE WEBSITE INCREASED RAPIDLY, OVER 50% OF THE VISITS WERE DONE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 EVALUATE THE EFFICENCY OF THE CAMPAIGN WE HAVE DONE OVER 1200 INTERVIEWS ON LINE ( PRE AND POST TEST) AND THE RESULT SHOW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ST OF CONSUMERS 68% RECOGNISED IN THE ADVERT THEIR RESPONSIBLE DRINKING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7% OF CONSUMERS CONFIRM THAT THE INFORMATION ON THE SPOT WILL HAVE AN INFLUENCE ON THEIR DRIKING BEHAVIOUR AND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REAT PART OF CONSUMERS 60% BELIEVED THE CAMPAIGN HAVE AN INFLUENCE ON THEIR SELF-CONTROL RELATED TO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JORITY OF CONSUMERS 85% CONSIDER THE INFORMATION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MAIN PART OF CONSUMERS 68% RECOGNISED THE SOCIAL ASPECT OF THE CAMPA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7% OF THE SAMPLE CONSIDERED THAT THE MESSAGE IS CREDIBLE AND OUT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60% OF CONSUMERS CONSIDERED FEBE MORE CREDIBLE AFTER LAUNCHED THIS TYPE OF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67% OF CONSUMERS FOUND THIS CAMPAIGN DIFFERENT FROM OTHERS ALCOHOL CAMPAIGNS AS CONTAIN DIFFERENT INFORMATION, BASED ON SELFCONTROL MESSAGE AND POSITIVE 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 CONCLUDE WE CAN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UMERS LIKE THE ADVERT, BECAUSE POSITVE 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MESSAGE IS CREDIBLE AND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UMERS IDENTIFY THEMSELVES WITH RESPONSIBLE DRIKING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UMERS APPRECIATED THE ACTIVE MESSAGE FROM FE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CAMPAIGN HAVE POSITIVE EFFECTS ON CONSUMERS ATTITU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FTER, PROVIDING INFORMATION THROUGH THE WEBSITE, LAUNCHED A MESSAGE TO SOCIETY ABOUT THE IMPORTANCE  OF RESPONSIBLE AND INDIVIDUAL CHOICES ABOUT THEIR DRIKING PATTERNS OUR NEXT STEP WILL BE INFORM YOUNG PEOPLE AT THE POINT OF CONSUMPTION ( BARS AND DISCOS) ABOUT WHAT IS AN ESTÁNDAR DRIKN, HOW MANY ESTÁNDAR DRINKS THEY CAN DRINK, WE WILL TALK ABOUT RESPONSIBLE DRINK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YOU HAVE ANY DOUBT FEEL FREE TO ASK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MAY KNOW WE LAUNCHED LAST YEAR OUR WEB SITE TO PROMOTE RESPONSIBLE DRIN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CONSUMERS CAN MAKE INFORMED CHOICES ABOUT THEIR ALCOHOL 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FTER DEVELOPED THE SITE, WE HAVE REALISED THAT WE HAVE A PROBLEM ABOUT PERCEPTIONS RELATED TO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PANISH PEOPLE BELIEVE THAT THE MAJORITY OF OTHER MISUSE ALCOHOL, BUT REALITY IS DIFFERENT, MOST OF POPULATION DRINK RESPONSIBLY. SOCIATY PERCIEVED A DRAMATIC SITUATION ABOUT ALCOHOL DUE TO THE MEDIA, SO WE HAVE TO WORK INTO CHANGE THOSE WRONG PERCEPC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JECTIVES OF THE CAMPAIGN W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OTE RESPONSIBLE ATTITUDES TOWARDS ALCOHOL 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INFORCE THE RESPONSIBLE ATTITUDES OF THE MAJ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E REMARK THE IMPORTANCE OF HAVING INDIVIDUAL RESPONSIBLE ATTITUDES TOWARDS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E HAVE A WIDE TARGET GROUP THAT GOES FROM 18 (LEGAL AGED TO DRINK) TO OVER 40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TARGET GROUP FROM 18 TO 25 YEARS OLD, STILL DEVELOPING THEIR DRINKING ATTITUDES, OUR OBJECTIVE IS TO BE A REFERENCE IN THEIR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E TARGET GROUP FROM 26 TO 40 YEARS OLD, OUR OBJECTIVE IS TO REINFORCE RESPONSIBLE ATTITUDES HOLD BY MAJ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 THE TARGET GROUP 40 AND OVER, ALREADY HAVE FIXED HABITS AND RESPONSIBLE DRINKING PATTERNS, OUR OBJECTIVE IS TO BE A REMINDER OF THE IMPORTANCE OF RESPONSIBLE ATTITUDES TOWARD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 AM GOING TO EXPLAIN THE STRUCTURE OF THE ADVE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IRST PART OF THE CAMPAIGN, WE FOUND OURSELVES IN AN IMAGINARY WORLD, IN THE CONSUMERS CONSCIENCE WHERE RESPONSIBLE ACTS ARE BEING PROCES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E CAN SEE SEVERAL STILLS FILLING BOTTLES IN A SHAPED OF LETTERS  WITH A LIQUID.  THE LETTERS SPELL THE PHRASE ENOUGH F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HIS PART OF THE ADVERT, IS A COMPARISON BETWEEN THE PROCESS OF ELABORATED ALCOHOL BEVERAGES AND THE PROCESS OF ELABORATED RESPONSIBLE ATTITUDES TOWARDS ALCOHOL CONSUM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N THE SECOND PART OF THE ADVERT, THE MESSAGE ENOUGH FOR TODAY PASSES FROM THE BRAIN AND OUT THROUGH THE EYES OF A YOUNG ADULT WHO IS DRINKING WITH FRIENDS IN A BAR. THIS PART IS THE CONEXIÓN BETWEEN THE IMAGINARY WORLD AND THE RE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HEN WE ARE IN THE REAL WORLD, WE CAN SEE A YOUNG ADULT WHO IS BEING OFFERED ANOTHER DRINK AND HE REJECTS IT, AS A RESULT OF RESPONSIBLE ATTITUDE ELABORATED BEF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INALLY WE CAN SEE DIFERENT SCENES WITH PEOPLE FROM DIFFERENT AGES, SOCIALISING AND DRINKING RESPONSIBLE. THEY REPRESENT THE MEDITERANEAS DRINK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8FC-22F5-4A28-9035-192B3FD5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043-85AC-489D-9DF0-DF81808A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DA1-E1B2-43E9-BA5F-F0DC9372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9FB-CBEF-4F2B-9E19-05BC871E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E374-1803-480E-9B61-8E53FF07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252D-B8D2-4092-B184-D57DB61B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1E27-B1E3-48C8-A390-3103735C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88F8-AAB7-4B9C-AED5-755EFE2E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CEF-4D0D-493F-825C-DC99F519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4070-8A8B-46F9-A0BF-FC942859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D2BD-AE3B-4129-B4C7-458BB94B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890-CCE5-4BC5-90D7-99535404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2499-5FB5-4B33-A52D-734BEA6D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DB85-96F2-45E4-BE90-DC5F19EC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71F1-7631-47DC-811C-82C26130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CA48-4EA1-4726-AFA0-D8D4A6B8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499F-14A0-4002-881A-BAA2EA5E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58A-42EC-43B7-9B1C-33C638AD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7B7-DD9D-46B4-AC9D-CF39FA87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3BA-23D2-4B06-B540-36AABCF4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27E-C6B7-410C-94F2-DA937708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E28-33E7-4E1F-A6FE-4EA31D04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880-8DA0-455B-BF8A-E5DF59B1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15A-A336-48C6-8204-E83B213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E9CC-7BF3-420A-BE85-75FC6A81FB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8624-66F4-4BB5-9C8A-2E3CA2342C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sumo-responsable.com/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mo-responsable.com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42800" y="164268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TV CAMPAIGN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Verdana"/>
              </a:rPr>
              <a:t>TO PROMO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Verdana"/>
              </a:rPr>
              <a:t>RESPONSIBLE DRIN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FEBE solo logo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1127400023"/>
          <p:cNvPicPr/>
          <p:nvPr/>
        </p:nvPicPr>
        <p:blipFill>
          <a:blip r:embed="rId2"/>
          <a:stretch/>
        </p:blipFill>
        <p:spPr>
          <a:xfrm>
            <a:off x="900000" y="2349360"/>
            <a:ext cx="202104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48" name="Picture 9" descr="FEBE solo logo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49" name="Subtitulado def. nueva cartela.mpg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858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Mass Medi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564000" y="1628640"/>
            <a:ext cx="48956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ampaign was launched during 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ristmas peri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en alcohol consumption is at its highest: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good moment to remind consumers of the importance of drinking responsi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ampaign was launched on national TV (on five channe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udget was over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900.000€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reat impact on </a:t>
            </a:r>
            <a:r>
              <a:rPr b="0" lang="en-GB" sz="20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www.consumo-responsable.co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Verdana"/>
              </a:rPr>
              <a:t>14.159 visi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1" lang="en-GB" sz="2000" spc="-1" strike="noStrike">
                <a:solidFill>
                  <a:srgbClr val="0000ff"/>
                </a:solidFill>
                <a:latin typeface="Verdana"/>
              </a:rPr>
              <a:t>15 day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compared to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3.715 visi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for the whole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9274700722"/>
          <p:cNvPicPr/>
          <p:nvPr/>
        </p:nvPicPr>
        <p:blipFill>
          <a:blip r:embed="rId2"/>
          <a:stretch/>
        </p:blipFill>
        <p:spPr>
          <a:xfrm>
            <a:off x="468360" y="2298600"/>
            <a:ext cx="2738520" cy="307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FEBE solo logo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Evaluation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27280" y="1557000"/>
            <a:ext cx="61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n-GB" sz="2000" spc="-1" strike="noStrike">
                <a:solidFill>
                  <a:srgbClr val="0000ff"/>
                </a:solidFill>
                <a:latin typeface="Verdana"/>
                <a:ea typeface="Arial"/>
              </a:rPr>
              <a:t>Consumers’ identification with responsible drinking patt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ff"/>
                </a:solidFill>
                <a:latin typeface="Verdana"/>
                <a:ea typeface="Arial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ff"/>
                </a:solidFill>
                <a:latin typeface="Verdana"/>
                <a:ea typeface="Arial"/>
              </a:rPr>
              <a:t>Influence on the perception of consumers’ alcohol consumption ha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8%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consumers </a:t>
            </a: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recognis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 the TV advert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ir responsible drinking behavio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7%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consumers confirm that 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forma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wed in the campaign will have an </a:t>
            </a: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influenc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on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ir drinking behaviou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patter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0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onsumers believed that the campaign helped have an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nflue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their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self-contr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ed to alcoh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8" descr="IBXANI00190343"/>
          <p:cNvPicPr/>
          <p:nvPr/>
        </p:nvPicPr>
        <p:blipFill>
          <a:blip r:embed="rId1"/>
          <a:stretch/>
        </p:blipFill>
        <p:spPr>
          <a:xfrm>
            <a:off x="755640" y="4149720"/>
            <a:ext cx="1393920" cy="2100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00130065"/>
          <p:cNvPicPr/>
          <p:nvPr/>
        </p:nvPicPr>
        <p:blipFill>
          <a:blip r:embed="rId2"/>
          <a:stretch/>
        </p:blipFill>
        <p:spPr>
          <a:xfrm>
            <a:off x="539640" y="1773360"/>
            <a:ext cx="2016360" cy="133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FEBE solo logo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Evaluation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65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85%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 consumers regarded the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informatio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ositively importa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68%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 consumers recognised the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ocial aspec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the campaig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57%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erceived the responsible drinking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ssage</a:t>
            </a:r>
            <a:r>
              <a:rPr b="0" lang="en-GB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credib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utstandin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60%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 consumers considered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EB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even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ore credib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s a result of launching  this type of mess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67%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consumers found that this campaign contained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different informatio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han other alcohol campaigns because it was </a:t>
            </a: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ased on self-control and in a positive t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IBXANI00190343"/>
          <p:cNvPicPr/>
          <p:nvPr/>
        </p:nvPicPr>
        <p:blipFill>
          <a:blip r:embed="rId1"/>
          <a:stretch/>
        </p:blipFill>
        <p:spPr>
          <a:xfrm>
            <a:off x="611280" y="4137120"/>
            <a:ext cx="1393560" cy="2100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FEBE solo logo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FEBE solo logo"/>
          <p:cNvPicPr/>
          <p:nvPr/>
        </p:nvPicPr>
        <p:blipFill>
          <a:blip r:embed="rId3"/>
          <a:stretch/>
        </p:blipFill>
        <p:spPr>
          <a:xfrm>
            <a:off x="755640" y="2492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3068640"/>
            <a:ext cx="7490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s liked the advertisement, especially the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positive ton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mess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essage has been perceived as being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credibl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releva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s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identify themselv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th the message and drinking patterns portray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s appreciated the active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messag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unched by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EB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ampaign had a 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positive effec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n consumers’ attitudes towards alcohol consumption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4" descr="home"/>
          <p:cNvPicPr/>
          <p:nvPr/>
        </p:nvPicPr>
        <p:blipFill>
          <a:blip r:embed="rId1"/>
          <a:stretch/>
        </p:blipFill>
        <p:spPr>
          <a:xfrm>
            <a:off x="5508720" y="1628640"/>
            <a:ext cx="1584360" cy="105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chico"/>
          <p:cNvPicPr/>
          <p:nvPr/>
        </p:nvPicPr>
        <p:blipFill>
          <a:blip r:embed="rId2"/>
          <a:stretch/>
        </p:blipFill>
        <p:spPr>
          <a:xfrm>
            <a:off x="1403280" y="1628640"/>
            <a:ext cx="1619280" cy="1101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FEBE solo logo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3300"/>
                </a:solidFill>
                <a:latin typeface="Verdana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ckground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192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bsi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www.consumo-responsable.com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ed in January 2008 to promote responsible drink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im: to support consumers to make an informed choice regarding alcohol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onocer"/>
          <p:cNvPicPr/>
          <p:nvPr/>
        </p:nvPicPr>
        <p:blipFill>
          <a:blip r:embed="rId2"/>
          <a:stretch/>
        </p:blipFill>
        <p:spPr>
          <a:xfrm>
            <a:off x="539640" y="3357720"/>
            <a:ext cx="1656000" cy="126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ome"/>
          <p:cNvPicPr/>
          <p:nvPr/>
        </p:nvPicPr>
        <p:blipFill>
          <a:blip r:embed="rId3"/>
          <a:stretch/>
        </p:blipFill>
        <p:spPr>
          <a:xfrm>
            <a:off x="611280" y="179712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05" name="cons_resp_banner-2.avi" descr=""/>
          <p:cNvPicPr/>
          <p:nvPr/>
        </p:nvPicPr>
        <p:blipFill>
          <a:blip r:embed="rId4"/>
          <a:stretch/>
        </p:blipFill>
        <p:spPr>
          <a:xfrm>
            <a:off x="684360" y="508464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FEBE solo logo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5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ckground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6000" y="1773360"/>
            <a:ext cx="613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n asked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anish peopl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eliev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hat a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majority of others misus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&amp; abus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lcoho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t th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lity i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quit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atest data, from the Ministry of Health, showed us that </a:t>
            </a:r>
            <a:r>
              <a:rPr b="1" lang="en-GB" sz="2400" spc="-1" strike="noStrike">
                <a:solidFill>
                  <a:srgbClr val="ff3300"/>
                </a:solidFill>
                <a:latin typeface="Verdana"/>
              </a:rPr>
              <a:t>96.6%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population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ave responsible attitudes towards alcohol consum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17 Flecha abajo"/>
          <p:cNvSpPr/>
          <p:nvPr/>
        </p:nvSpPr>
        <p:spPr>
          <a:xfrm>
            <a:off x="5219640" y="4221000"/>
            <a:ext cx="571680" cy="6494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FEBE solo logo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3D_82"/>
          <p:cNvPicPr/>
          <p:nvPr/>
        </p:nvPicPr>
        <p:blipFill>
          <a:blip r:embed="rId2"/>
          <a:stretch/>
        </p:blipFill>
        <p:spPr>
          <a:xfrm>
            <a:off x="900000" y="1989000"/>
            <a:ext cx="1435320" cy="215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brindis2"/>
          <p:cNvPicPr/>
          <p:nvPr/>
        </p:nvPicPr>
        <p:blipFill>
          <a:blip r:embed="rId3"/>
          <a:stretch/>
        </p:blipFill>
        <p:spPr>
          <a:xfrm>
            <a:off x="684360" y="4932360"/>
            <a:ext cx="19447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Verdana"/>
              </a:rPr>
              <a:t>Objective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6000" y="1773360"/>
            <a:ext cx="613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omote responsibl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itudes towards alcohol consump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inforc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isting attitud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f thos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ho have responsible consumption habi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e importance of having </a:t>
            </a:r>
            <a:r>
              <a:rPr b="0" lang="es-ES" sz="2800" spc="-1" strike="noStrike">
                <a:solidFill>
                  <a:srgbClr val="0000ff"/>
                </a:solidFill>
                <a:latin typeface="Verdana"/>
              </a:rPr>
              <a:t>individual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esponsible attitudes towards alcohol consum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2" descr="alambiques"/>
          <p:cNvPicPr/>
          <p:nvPr/>
        </p:nvPicPr>
        <p:blipFill>
          <a:blip r:embed="rId1"/>
          <a:stretch/>
        </p:blipFill>
        <p:spPr>
          <a:xfrm>
            <a:off x="431640" y="1700280"/>
            <a:ext cx="1608120" cy="119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chico"/>
          <p:cNvPicPr/>
          <p:nvPr/>
        </p:nvPicPr>
        <p:blipFill>
          <a:blip r:embed="rId2"/>
          <a:stretch/>
        </p:blipFill>
        <p:spPr>
          <a:xfrm>
            <a:off x="431640" y="3500280"/>
            <a:ext cx="1619280" cy="11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escena 1"/>
          <p:cNvPicPr/>
          <p:nvPr/>
        </p:nvPicPr>
        <p:blipFill>
          <a:blip r:embed="rId3"/>
          <a:stretch/>
        </p:blipFill>
        <p:spPr>
          <a:xfrm>
            <a:off x="431640" y="5300640"/>
            <a:ext cx="1598760" cy="1200240"/>
          </a:xfrm>
          <a:prstGeom prst="rect">
            <a:avLst/>
          </a:prstGeom>
          <a:ln w="0">
            <a:noFill/>
          </a:ln>
        </p:spPr>
      </p:pic>
      <p:sp>
        <p:nvSpPr>
          <p:cNvPr id="118" name="17 Flecha abajo"/>
          <p:cNvSpPr/>
          <p:nvPr/>
        </p:nvSpPr>
        <p:spPr>
          <a:xfrm>
            <a:off x="5219640" y="3860640"/>
            <a:ext cx="571680" cy="6494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FEBE solo logo"/>
          <p:cNvPicPr/>
          <p:nvPr/>
        </p:nvPicPr>
        <p:blipFill>
          <a:blip r:embed="rId4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arget Group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6000" y="1773360"/>
            <a:ext cx="6130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All consumers from 18 to 40 and 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8 to 25 year olds: this age group is still developing drinking attitudes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</a:rPr>
              <a:t>our objective is to become a reference for their drinking patter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6 to 40 year olds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</a:rPr>
              <a:t>our objective is to reinforce the responsible attitudes which already exist within a majority of consum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0 and over: this age group already has fixed habits and responsible drinking patterns. They must perceive the message as a social labour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</a:rPr>
              <a:t>our objective is to offer a reminder of the importance of responsible attitudes towards alcohol consump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9" descr="mayores bebiendo"/>
          <p:cNvPicPr/>
          <p:nvPr/>
        </p:nvPicPr>
        <p:blipFill>
          <a:blip r:embed="rId1"/>
          <a:stretch/>
        </p:blipFill>
        <p:spPr>
          <a:xfrm>
            <a:off x="468360" y="5327640"/>
            <a:ext cx="1582560" cy="131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joven bebiendo"/>
          <p:cNvPicPr/>
          <p:nvPr/>
        </p:nvPicPr>
        <p:blipFill>
          <a:blip r:embed="rId2"/>
          <a:stretch/>
        </p:blipFill>
        <p:spPr>
          <a:xfrm>
            <a:off x="674640" y="3213000"/>
            <a:ext cx="1089000" cy="1654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chicas chupitos"/>
          <p:cNvPicPr/>
          <p:nvPr/>
        </p:nvPicPr>
        <p:blipFill>
          <a:blip r:embed="rId3"/>
          <a:stretch/>
        </p:blipFill>
        <p:spPr>
          <a:xfrm>
            <a:off x="468360" y="1557360"/>
            <a:ext cx="1582560" cy="118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FEBE solo logo"/>
          <p:cNvPicPr/>
          <p:nvPr/>
        </p:nvPicPr>
        <p:blipFill>
          <a:blip r:embed="rId4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634920" y="1699920"/>
            <a:ext cx="4969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the first part of the TV spot, the images portray a consumers mind set, where responsible acts are being proces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alambiques"/>
          <p:cNvPicPr/>
          <p:nvPr/>
        </p:nvPicPr>
        <p:blipFill>
          <a:blip r:embed="rId1"/>
          <a:stretch/>
        </p:blipFill>
        <p:spPr>
          <a:xfrm>
            <a:off x="752400" y="1693800"/>
            <a:ext cx="281160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etras"/>
          <p:cNvPicPr/>
          <p:nvPr/>
        </p:nvPicPr>
        <p:blipFill>
          <a:blip r:embed="rId2"/>
          <a:stretch/>
        </p:blipFill>
        <p:spPr>
          <a:xfrm>
            <a:off x="5940360" y="4095720"/>
            <a:ext cx="2879640" cy="2163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468360" y="4437000"/>
            <a:ext cx="51102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ral stills</a:t>
            </a: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e filling bottles with a liquid in the shape of letters, spelling out 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OUGH FOR TO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FEBE solo logo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33" name="Picture 6" descr="alambiques"/>
          <p:cNvPicPr/>
          <p:nvPr/>
        </p:nvPicPr>
        <p:blipFill>
          <a:blip r:embed="rId1"/>
          <a:stretch/>
        </p:blipFill>
        <p:spPr>
          <a:xfrm>
            <a:off x="752400" y="1773360"/>
            <a:ext cx="2811600" cy="2087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57080" y="4307040"/>
            <a:ext cx="77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arison between the process of generating an alcoholic beverages and a responsible attitude towards alcohol consu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7 Flecha abajo"/>
          <p:cNvSpPr/>
          <p:nvPr/>
        </p:nvSpPr>
        <p:spPr>
          <a:xfrm rot="16200000">
            <a:off x="4212360" y="1843560"/>
            <a:ext cx="430200" cy="1152360"/>
          </a:xfrm>
          <a:prstGeom prst="downArrow">
            <a:avLst>
              <a:gd name="adj1" fmla="val 50000"/>
              <a:gd name="adj2" fmla="val 133933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7 Flecha abajo"/>
          <p:cNvSpPr/>
          <p:nvPr/>
        </p:nvSpPr>
        <p:spPr>
          <a:xfrm rot="5400000">
            <a:off x="4210200" y="2780280"/>
            <a:ext cx="433440" cy="1152360"/>
          </a:xfrm>
          <a:prstGeom prst="downArrow">
            <a:avLst>
              <a:gd name="adj1" fmla="val 50000"/>
              <a:gd name="adj2" fmla="val 132932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Imagen1"/>
          <p:cNvPicPr/>
          <p:nvPr/>
        </p:nvPicPr>
        <p:blipFill>
          <a:blip r:embed="rId2"/>
          <a:stretch/>
        </p:blipFill>
        <p:spPr>
          <a:xfrm>
            <a:off x="5337000" y="1773360"/>
            <a:ext cx="28353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34920" y="169992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uring the second part of the advert the message “ENOUGH FOR TODAY” passes from the brain and out through the eyes of a young adult, who is in a bar drinking with frien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This part is the connexion between the imaginary world and the real wor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55640" y="4292640"/>
            <a:ext cx="46782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see a young adult who is being offered another drink and rejects it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as a result of  a responsible attitude elaborated in his brain bef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vale por hoy"/>
          <p:cNvPicPr/>
          <p:nvPr/>
        </p:nvPicPr>
        <p:blipFill>
          <a:blip r:embed="rId1"/>
          <a:stretch/>
        </p:blipFill>
        <p:spPr>
          <a:xfrm>
            <a:off x="544680" y="1816200"/>
            <a:ext cx="2803320" cy="2044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hico"/>
          <p:cNvPicPr/>
          <p:nvPr/>
        </p:nvPicPr>
        <p:blipFill>
          <a:blip r:embed="rId2"/>
          <a:stretch/>
        </p:blipFill>
        <p:spPr>
          <a:xfrm>
            <a:off x="6012000" y="4653000"/>
            <a:ext cx="25765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Verdana"/>
              </a:rPr>
              <a:t>The adver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7080" y="4307040"/>
            <a:ext cx="73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 the end of the advert, you can see different aged people socialising and drinking responsibly. They represent the “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Mediterranean drinking patter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escena 1"/>
          <p:cNvPicPr/>
          <p:nvPr/>
        </p:nvPicPr>
        <p:blipFill>
          <a:blip r:embed="rId1"/>
          <a:stretch/>
        </p:blipFill>
        <p:spPr>
          <a:xfrm>
            <a:off x="915840" y="1773360"/>
            <a:ext cx="2792520" cy="2095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escena 2"/>
          <p:cNvPicPr/>
          <p:nvPr/>
        </p:nvPicPr>
        <p:blipFill>
          <a:blip r:embed="rId2"/>
          <a:stretch/>
        </p:blipFill>
        <p:spPr>
          <a:xfrm>
            <a:off x="5076720" y="1773360"/>
            <a:ext cx="279252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4:56:58Z</dcterms:created>
  <dc:creator>Sonia</dc:creator>
  <dc:description/>
  <dc:language>en-US</dc:language>
  <cp:lastModifiedBy>Sonia</cp:lastModifiedBy>
  <dcterms:modified xsi:type="dcterms:W3CDTF">2009-04-21T10:51:08Z</dcterms:modified>
  <cp:revision>97</cp:revision>
  <dc:subject/>
  <dc:title>Diapositiva 1</dc:title>
</cp:coreProperties>
</file>