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F58-7E59-44F9-A06C-CA76E8E9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616-0773-4DC4-A71F-B6D9FA08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B39-C785-49CA-9AB6-1565D986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7E7-AA33-4567-83C9-FC7EA0C9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2AC-8542-4FF3-AB81-FBB43496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774-27A9-4FFE-9289-7964792A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D83-4D97-4F34-9EE5-B7B6D96B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94F-33A8-4598-8D26-6AC57E48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529-3310-450B-9CBF-2337B977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CEE-D956-4508-AFF8-263C7AD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947-4596-48DA-BE80-57DE013D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009-837E-4084-BA00-060A37B6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897D-4DD4-4282-972A-55410B47F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noc-turnos.es/" TargetMode="External"/><Relationship Id="rId4" Type="http://schemas.openxmlformats.org/officeDocument/2006/relationships/hyperlink" Target="http://www.noc-turnos.es/" TargetMode="External"/><Relationship Id="rId5" Type="http://schemas.openxmlformats.org/officeDocument/2006/relationships/hyperlink" Target="http://www.noc-turnos.es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www.noc-turnos.es/" TargetMode="External"/><Relationship Id="rId5" Type="http://schemas.openxmlformats.org/officeDocument/2006/relationships/hyperlink" Target="http://www.noc-turnos.es/" TargetMode="External"/><Relationship Id="rId6" Type="http://schemas.openxmlformats.org/officeDocument/2006/relationships/hyperlink" Target="http://www.noc-turnos.es/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76640"/>
            <a:ext cx="9144000" cy="17269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Designated driv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2003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284280"/>
            <a:ext cx="9144000" cy="533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07664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increase the knowledge of the designated driver role among young people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s media ad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v, newspapers, internet and on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oc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-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urnos.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537372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ange attitudes at points of consumptio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erts sent to encourage consumers to become designated drivers. Rewards for those who have a negative breathalyser test (free soft drinks, t-shirts, petrol vouc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5589720"/>
            <a:ext cx="122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45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404640"/>
            <a:ext cx="6697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13000"/>
            <a:ext cx="9144000" cy="533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799308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o raise awareness of the dangers of drink-driving among young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o implement the designated driver concept as a normal behavi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404640"/>
            <a:ext cx="6697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13000"/>
            <a:ext cx="9144000" cy="533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924280"/>
            <a:ext cx="799308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GT( National Road Safety admini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ervei Catala transit ( Regional road safety administration in Catalo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stituto Andaluz de la Juventud ( Regional Youth institute in Andalus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pfre ( Motoring associ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00" y="404640"/>
            <a:ext cx="7056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341360"/>
            <a:ext cx="914400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ass media investment 03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8993160" cy="195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4797360"/>
            <a:ext cx="7993080" cy="146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vestment to raise awarenes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 the designated driver role from 2003 to 2008 has b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621.872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3.883,8 GRP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92.942 visits on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noc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-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urnos.e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nowledge of the role h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ased  50% over the last 5 yea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03280" y="404640"/>
            <a:ext cx="67690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341360"/>
            <a:ext cx="914400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nvestment of promotions at point of consumption 03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653000"/>
            <a:ext cx="7993080" cy="146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tal investment to implement the designated driver role as a habit from 2003 to 2008 has b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54.245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 fa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3.855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ople adopted the r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2.336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ople h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eived the message to adopt the designated driver ro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855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404640"/>
            <a:ext cx="64087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341360"/>
            <a:ext cx="9144000" cy="432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ai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822320"/>
            <a:ext cx="8351640" cy="5031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bits related drink driv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st young people always take their car when they go out at night at weekends 69% (2003) vs 66% (2007)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 use of the car has decreased sligh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 increa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 the number of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oung drive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ever drink and drive 27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2003) vs 73% (2007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e observed an increase in  responsible attitudes towards drink driving over the last 5 years. Thi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centage is high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etw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ivers aged from 16 to 25 years ol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  the driver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ever drink and drive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designated driver role is starting to become a ha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st of the tim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 person who adopted the designated driver ro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wner of the car 75% (2007) VS 69% (2003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 rotati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 the role has been a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milar level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ver the last five year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4% (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the owner of the car had drunk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y would ask someone who hadn’t been dinking to drive, 64%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5% of the sample refused to be driven home by a drink dri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03280" y="404640"/>
            <a:ext cx="64087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341360"/>
            <a:ext cx="9144000" cy="432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ai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822320"/>
            <a:ext cx="7777080" cy="475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Knowlegde of the designated driver rol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nowlegde of the ro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ased 50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ver the last five years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2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2003) VS 72% (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89% of the sample knew about the ro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hrough the different mass media tools which we are use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abits related to the designated driver ro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perception that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ignated driver  role would became a habit has increas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ach ye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 role is percieved to be more fea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% (2003) VS 41%( 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ture drivers intention to adopt the role (76%), which has seen a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ase of 45% over the last 5 yea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80% and 90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 the sampl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ue this initiative as very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3280" y="404640"/>
            <a:ext cx="64087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41360"/>
            <a:ext cx="9144000" cy="432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205000"/>
            <a:ext cx="7993080" cy="3934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G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05: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 avarage of 15,8% decrea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 accidents betw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ged from 18 to 20 years old at week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06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 avarage of 13,5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crea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 road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aths between drivers fro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8 and 34 years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2007 there w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74 less deaths than in 200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This represents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uction of 9.1%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oung deceas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etw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5 and 2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ears old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s dropp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ince 2003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y 46.4%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his being 364 less de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9:16:41Z</dcterms:created>
  <dc:creator>Sonia</dc:creator>
  <dc:description/>
  <dc:language>en-US</dc:language>
  <cp:lastModifiedBy>Sonia</cp:lastModifiedBy>
  <dcterms:modified xsi:type="dcterms:W3CDTF">2008-11-18T16:50:26Z</dcterms:modified>
  <cp:revision>47</cp:revision>
  <dc:subject/>
  <dc:title>Diapositiva 1</dc:title>
</cp:coreProperties>
</file>