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68200" y="5087880"/>
            <a:ext cx="5221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312920" y="1027080"/>
            <a:ext cx="493236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312920" y="1027080"/>
            <a:ext cx="493236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5D2-30B0-4BF8-B3BA-5B85F91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22D-2911-4A63-A95A-09CD1DF0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85F-2987-4561-AE0A-4B8BFA6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6B7-8C1C-4390-BC47-FDD0822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2BC-C3FC-4F42-8CB6-01636D8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979-71D3-4BC3-A362-1AF6F21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771-7327-4CD7-B45D-C652D51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354-5891-4B03-9F95-D76444C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D4E-E112-4272-8D13-5D956CB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82A-807A-40B4-A617-5718141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B8F-3AA2-4570-A850-682B7BC4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C9F-D454-4FCA-8D09-AFFAD81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EA979A-F7BA-4C7E-9816-6E36DB704FB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09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OBAVME-SE-O-ALKOHOLU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24000" y="1260360"/>
            <a:ext cx="61196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w Concep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-operation with SANAN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e of the most important NGOs in the area of drug prevention, health care and c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 MODO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Monitoring of drug use at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Evaluation of th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Targeted Inter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Alcohol is the Probl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esentation based on pobavmeseoalkoholu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 algn="just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009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80 presentation days for approx. 6.000 students (4 lecturers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 algn="just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47560" y="6797520"/>
            <a:ext cx="150516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3281400" cy="202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7199280" y="1546200"/>
            <a:ext cx="2671920" cy="295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5219640" y="3224160"/>
            <a:ext cx="216072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43668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OBAVME-SE-O-ALKOHOLU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60360" y="1332000"/>
            <a:ext cx="6119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47560" y="6797520"/>
            <a:ext cx="1505160" cy="50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39640" y="1440000"/>
            <a:ext cx="5759640" cy="43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5219640" y="395928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7477200" y="21600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rigaudeau</cp:lastModifiedBy>
  <dcterms:modified xsi:type="dcterms:W3CDTF">2009-05-28T13:08:13Z</dcterms:modified>
  <cp:revision>2</cp:revision>
  <dc:subject/>
  <dc:title>Board of Directors Meeting</dc:title>
</cp:coreProperties>
</file>