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168200" y="5087880"/>
            <a:ext cx="52210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1312920" y="1027080"/>
            <a:ext cx="493236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1168560" y="5087880"/>
            <a:ext cx="52228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1312920" y="1027080"/>
            <a:ext cx="493236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1168560" y="5087880"/>
            <a:ext cx="52228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088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5076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6064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45E2-CF99-4B23-8663-12EB976F6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A5C8-DB39-4DF6-B205-4ACBF405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4F11-655D-4C3F-AFDE-69EEDE40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B1FB-7077-4D87-B1CB-DCD258D0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4E1A-F1FA-4243-950F-A4FE342F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58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71B0-0AD2-4A0E-A859-AF98550C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9D05-08F6-44D3-B95A-4CA8D7EB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4A32-0EEA-40C6-A553-9D31F7A9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F557-7D71-4C71-9B87-76960B45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B9BC-F7B1-4393-AEC5-45E41F3D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2F5E-ABB8-4F24-96BB-B3906EF90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4088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5076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6064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3236-4499-44F4-B52A-D4A2AF50C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58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404640" y="1893960"/>
            <a:ext cx="9676080" cy="56674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94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AD9D99B-EAE0-41BF-A631-980977595E36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0960" y="17568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333333"/>
                </a:solidFill>
                <a:latin typeface="Arial"/>
              </a:rPr>
              <a:t>POBAVME-SE-O-ALKOHOLU.CZ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324000" y="1260360"/>
            <a:ext cx="61196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New Concep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o-operation with SANANI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One of the most important NGOs in the area of drug prevention, health care and c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Programme MODO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- Monitoring of drug use at sch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- Evaluation of the Monito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- Targeted Interven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If Alcohol is the Proble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Presentation based on pobavmeseoalkoholu.c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 algn="just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2009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80 presentation days for approx. 6.000 students (4 lecturers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 algn="just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547560" y="6797520"/>
            <a:ext cx="1505160" cy="509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6629400" y="4724280"/>
            <a:ext cx="3281400" cy="2025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3"/>
          <a:stretch/>
        </p:blipFill>
        <p:spPr>
          <a:xfrm>
            <a:off x="7199280" y="1546200"/>
            <a:ext cx="2671920" cy="2954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4"/>
          <a:stretch/>
        </p:blipFill>
        <p:spPr>
          <a:xfrm>
            <a:off x="5219640" y="3224160"/>
            <a:ext cx="2160720" cy="145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436680" y="17568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333333"/>
                </a:solidFill>
                <a:latin typeface="Arial"/>
              </a:rPr>
              <a:t>POBAVME-SE-O-ALKOHOLU.CZ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360360" y="1332000"/>
            <a:ext cx="61196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547560" y="6797520"/>
            <a:ext cx="1505160" cy="509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539640" y="1440000"/>
            <a:ext cx="5759640" cy="4319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3"/>
          <a:stretch/>
        </p:blipFill>
        <p:spPr>
          <a:xfrm>
            <a:off x="5219640" y="3959280"/>
            <a:ext cx="4680000" cy="3510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4"/>
          <a:stretch/>
        </p:blipFill>
        <p:spPr>
          <a:xfrm>
            <a:off x="7477200" y="216000"/>
            <a:ext cx="2386080" cy="360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Brigaudeau</cp:lastModifiedBy>
  <dcterms:modified xsi:type="dcterms:W3CDTF">2009-05-28T13:08:13Z</dcterms:modified>
  <cp:revision>2</cp:revision>
  <dc:subject/>
  <dc:title>Board of Directors Meeting</dc:title>
</cp:coreProperties>
</file>