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6C4-11E8-478C-A7D7-5D671F4D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A7E-08E5-4E6A-8A4D-363BEC43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D09-2548-4046-8C55-CFA6F484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6C3-E19C-4E35-9A22-191D23D0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8D2-D82B-49ED-825E-48A266D8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C0C-5A77-4E34-8511-78137002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4917-D3B8-40EC-925B-E7BD6D99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CE9-D218-441D-A061-62EC21BA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B938-0768-4404-A08E-E3853925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9511-BDB9-4B55-9BB2-0675293D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8F0-0F74-420B-B4D9-43F988AE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87D5-DA4C-4D0C-808D-55F78A28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404640" y="1893960"/>
            <a:ext cx="9676080" cy="56674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53D3CE-4CE5-4C9F-8E12-FD6928D877CD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0960" y="250920"/>
            <a:ext cx="86090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333333"/>
                </a:solidFill>
                <a:latin typeface="Arial"/>
              </a:rPr>
              <a:t>PIJSROZUMEM.CZ @ FORUM-PSR.CZ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360360" y="1332000"/>
            <a:ext cx="3959280" cy="42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United Web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n-line since December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ntent Management in our h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everal updates (press release on alcohol related road accidents in 2008, media coverage, brochure on alcohol and pregnancy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03280" y="6870600"/>
            <a:ext cx="1504800" cy="509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5219640" y="1079640"/>
            <a:ext cx="468000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0960" y="250920"/>
            <a:ext cx="86090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333333"/>
                </a:solidFill>
                <a:latin typeface="Arial"/>
              </a:rPr>
              <a:t>PIJSROZUMEM.CZ @ FORUM-PSR.CZ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360360" y="1368360"/>
            <a:ext cx="521964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 way to attract further traff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pecial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isual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related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ponsible drinking, drawn by well know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zech &amp; Slovak comix auth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specially for this web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25 original draw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Budget: approx. 2.500,- E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Co-operation with Seqence.cz, organiser of KomiksFES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Launched April 3</a:t>
            </a:r>
            <a:r>
              <a:rPr b="0" lang="cs-CZ" sz="2000" spc="-1" strike="noStrike" baseline="33000">
                <a:solidFill>
                  <a:srgbClr val="000000"/>
                </a:solidFill>
                <a:latin typeface="Arial"/>
                <a:ea typeface="Arial Unicode MS"/>
              </a:rPr>
              <a:t>r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Target group: Intelligent, young adults, opinion leaders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03280" y="6870600"/>
            <a:ext cx="1504800" cy="509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5400720" y="1155600"/>
            <a:ext cx="4608360" cy="6269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503280" y="5543640"/>
            <a:ext cx="4680000" cy="104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Brigaudeau</cp:lastModifiedBy>
  <dcterms:modified xsi:type="dcterms:W3CDTF">2009-05-28T13:04:53Z</dcterms:modified>
  <cp:revision>2</cp:revision>
  <dc:subject/>
  <dc:title>Board of Directors Meeting</dc:title>
</cp:coreProperties>
</file>