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A03-2F15-4CC4-9E75-240FAB9F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EEE-E06C-4775-837C-F243CDED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C37-EF43-46B1-8524-994F37D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786-6745-403F-8A33-A38CE4F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5A0-EE54-4460-9BCF-B4E3A56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E2E-C87D-4A33-89FD-16184F0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B03-45B7-41BF-B62B-9054153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D72-38B6-44C5-BB1F-9D52BD70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4DF-A249-4E38-A92D-D281A94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5C8-2CFF-47AF-918B-8F78B69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1B2-ADBA-4BD0-82D7-828B1CEC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816-6795-4A82-B994-519ABC8C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453C3B-DCA6-4504-92B4-C33B0441807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0960" y="250920"/>
            <a:ext cx="86090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IJSROZUMEM.CZ @ FORUM-PSR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360360" y="1332000"/>
            <a:ext cx="395928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ited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-line since December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tent Management in our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veral updates (press release on alcohol related road accidents in 2008, media coverage, brochure on alcohol and pregnanc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03280" y="6870600"/>
            <a:ext cx="1504800" cy="5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219640" y="1079640"/>
            <a:ext cx="46800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0960" y="250920"/>
            <a:ext cx="86090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PIJSROZUMEM.CZ @ FORUM-PSR.CZ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0360" y="1368360"/>
            <a:ext cx="521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way to attract further traf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pecial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sual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lat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ponsible drinking, drawn by well know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zech &amp; Slovak comix aut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pecially for this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25 original draw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Budget: approx. 2.500,- 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Co-operation with Seqence.cz, organiser of KomiksFES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Launched April 3</a:t>
            </a:r>
            <a:r>
              <a:rPr b="0" lang="cs-CZ" sz="2000" spc="-1" strike="noStrike" baseline="33000">
                <a:solidFill>
                  <a:srgbClr val="000000"/>
                </a:solidFill>
                <a:latin typeface="Arial"/>
                <a:ea typeface="Arial Unicode MS"/>
              </a:rPr>
              <a:t>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24000">
              <a:lnSpc>
                <a:spcPct val="97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Target group: Intelligent, young adults, opinion leaders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3280" y="6870600"/>
            <a:ext cx="150480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400720" y="1155600"/>
            <a:ext cx="4608360" cy="626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503280" y="5543640"/>
            <a:ext cx="4680000" cy="104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rigaudeau</cp:lastModifiedBy>
  <dcterms:modified xsi:type="dcterms:W3CDTF">2009-05-28T13:04:53Z</dcterms:modified>
  <cp:revision>2</cp:revision>
  <dc:subject/>
  <dc:title>Board of Directors Meeting</dc:title>
</cp:coreProperties>
</file>